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1162-642A-4411-B375-B5B3C10A9F8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8233-22A9-4884-A25B-11BE8B0ACCB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FD06A-B442-40EF-9055-1813289AB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1C34-6539-4673-805A-77B3597EA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A982B-3B50-4A93-8817-A43DAA2E3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7BCC4-C04F-43E3-A8E1-6AA000011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FED0E-93BE-4A85-AFC2-21B143EF3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13DD-DC7F-439B-97FA-FB5ABE803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0F3F-D3CC-4351-9540-70896395A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831DF-B7CD-4508-867A-198E7576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BBCA-D791-472A-AD18-621EE769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8444F-B8AE-4CFB-9BCC-9D3426966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E089-2F88-4003-B2C9-574E15CEF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49FB-781E-4CD0-B78C-5160791F8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4AE5-968C-4756-A54A-E11E97B015B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paonline.it/web/glossario/index.php?cat_id=16#q231"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it-IT" sz="1800" spc="-1" strike="noStrike">
                <a:solidFill>
                  <a:srgbClr val="000000"/>
                </a:solidFill>
                <a:latin typeface="Calibri"/>
              </a:rPr>
              <a:t>Dalle relazioni interistituzionali all’attività di classe in presenza di alunni con disabilità :criteri per una programmazione integrata</a:t>
            </a:r>
            <a:br>
              <a:rPr sz="1800"/>
            </a:br>
            <a:br>
              <a:rPr sz="1800"/>
            </a:br>
            <a:r>
              <a:rPr b="1" i="1" lang="it-IT" sz="1800" spc="-1" strike="noStrike">
                <a:solidFill>
                  <a:srgbClr val="000000"/>
                </a:solidFill>
                <a:latin typeface="Calibri"/>
              </a:rPr>
              <a:t>                                                                        (a cura di Angela  Denegri  Debolini)</a:t>
            </a:r>
            <a:br>
              <a:rPr sz="1800"/>
            </a:br>
            <a:endParaRPr b="0" lang="en-US" sz="1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fornian FB"/>
                <a:ea typeface="바탕"/>
              </a:rPr>
              <a:t>DIVERSE PROSPETTIVE PROGETTUALI PER UN ALUNNO CON DISABILITA’:</a:t>
            </a:r>
            <a:endParaRPr b="0" lang="en-US" sz="1800" spc="-1" strike="noStrike">
              <a:solidFill>
                <a:srgbClr val="000000"/>
              </a:solidFill>
              <a:latin typeface="Calibri"/>
            </a:endParaRPr>
          </a:p>
          <a:p>
            <a:pPr marL="332640" indent="-3326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fornian FB"/>
                <a:ea typeface="바탕"/>
              </a:rPr>
              <a:t> </a:t>
            </a:r>
            <a:r>
              <a:rPr b="1" lang="it-IT" sz="1800" spc="-1" strike="noStrike">
                <a:solidFill>
                  <a:srgbClr val="ff0000"/>
                </a:solidFill>
                <a:latin typeface="Californian FB"/>
                <a:ea typeface="바탕"/>
              </a:rPr>
              <a:t>della Famiglia- </a:t>
            </a:r>
            <a:r>
              <a:rPr b="0" lang="it-IT" sz="1800" spc="-1" strike="noStrike">
                <a:solidFill>
                  <a:srgbClr val="000000"/>
                </a:solidFill>
                <a:latin typeface="Californian FB"/>
                <a:ea typeface="바탕"/>
              </a:rPr>
              <a:t>(da cui ottenere,attraverso incontri,colloqui mirati  notizie riguardanti:</a:t>
            </a:r>
            <a:r>
              <a:rPr b="1" lang="it-IT" sz="1800" spc="-1" strike="noStrike">
                <a:solidFill>
                  <a:srgbClr val="000000"/>
                </a:solidFill>
                <a:latin typeface="Californian FB"/>
                <a:ea typeface="바탕"/>
              </a:rPr>
              <a:t>lo sviluppo dell’autonomia del figlio</a:t>
            </a:r>
            <a:r>
              <a:rPr b="0" lang="it-IT" sz="1800" spc="-1" strike="noStrike">
                <a:solidFill>
                  <a:srgbClr val="000000"/>
                </a:solidFill>
                <a:latin typeface="Californian FB"/>
                <a:ea typeface="바탕"/>
              </a:rPr>
              <a:t>• </a:t>
            </a:r>
            <a:r>
              <a:rPr b="1" lang="it-IT" sz="1800" spc="-1" strike="noStrike">
                <a:solidFill>
                  <a:srgbClr val="000000"/>
                </a:solidFill>
                <a:latin typeface="Californian FB"/>
                <a:ea typeface="바탕"/>
              </a:rPr>
              <a:t>quali obiettivi privilegia</a:t>
            </a:r>
            <a:r>
              <a:rPr b="0" lang="it-IT" sz="1800" spc="-1" strike="noStrike">
                <a:solidFill>
                  <a:srgbClr val="000000"/>
                </a:solidFill>
                <a:latin typeface="Californian FB"/>
                <a:ea typeface="바탕"/>
              </a:rPr>
              <a:t> </a:t>
            </a:r>
            <a:r>
              <a:rPr b="1" lang="it-IT" sz="1800" spc="-1" strike="noStrike">
                <a:solidFill>
                  <a:srgbClr val="000000"/>
                </a:solidFill>
                <a:latin typeface="Californian FB"/>
                <a:ea typeface="바탕"/>
              </a:rPr>
              <a:t>quale progetto di vita sta elaborando s</a:t>
            </a:r>
            <a:r>
              <a:rPr b="0" lang="it-IT" sz="1800" spc="-1" strike="noStrike">
                <a:solidFill>
                  <a:srgbClr val="000000"/>
                </a:solidFill>
                <a:latin typeface="Californian FB"/>
                <a:ea typeface="바탕"/>
              </a:rPr>
              <a:t>ono fattori importanti da valutare perché hanno un impatto sia sull’</a:t>
            </a:r>
            <a:r>
              <a:rPr b="1" lang="it-IT" sz="1800" spc="-1" strike="noStrike">
                <a:solidFill>
                  <a:srgbClr val="000000"/>
                </a:solidFill>
                <a:latin typeface="Californian FB"/>
                <a:ea typeface="바탕"/>
              </a:rPr>
              <a:t>apprendimento, sia per </a:t>
            </a:r>
            <a:r>
              <a:rPr b="0" lang="it-IT" sz="1800" spc="-1" strike="noStrike">
                <a:solidFill>
                  <a:srgbClr val="000000"/>
                </a:solidFill>
                <a:latin typeface="Californian FB"/>
                <a:ea typeface="바탕"/>
              </a:rPr>
              <a:t>l’</a:t>
            </a:r>
            <a:r>
              <a:rPr b="1" lang="it-IT" sz="1800" spc="-1" strike="noStrike">
                <a:solidFill>
                  <a:srgbClr val="000000"/>
                </a:solidFill>
                <a:latin typeface="Californian FB"/>
                <a:ea typeface="바탕"/>
              </a:rPr>
              <a:t>autostima generale e di conseguenza con </a:t>
            </a:r>
            <a:r>
              <a:rPr b="0" lang="it-IT" sz="1800" spc="-1" strike="noStrike">
                <a:solidFill>
                  <a:srgbClr val="000000"/>
                </a:solidFill>
                <a:latin typeface="Californian FB"/>
                <a:ea typeface="바탕"/>
              </a:rPr>
              <a:t>l’equilibrio e il </a:t>
            </a:r>
            <a:r>
              <a:rPr b="1" lang="it-IT" sz="1800" spc="-1" strike="noStrike">
                <a:solidFill>
                  <a:srgbClr val="000000"/>
                </a:solidFill>
                <a:latin typeface="Californian FB"/>
                <a:ea typeface="바탕"/>
              </a:rPr>
              <a:t>benessere psicologico dell’alunno)</a:t>
            </a:r>
            <a:endParaRPr b="0" lang="en-US" sz="1800" spc="-1" strike="noStrike">
              <a:solidFill>
                <a:srgbClr val="000000"/>
              </a:solidFill>
              <a:latin typeface="Calibri"/>
            </a:endParaRPr>
          </a:p>
          <a:p>
            <a:pPr marL="332640" indent="-3326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fornian FB"/>
                <a:ea typeface="바탕"/>
              </a:rPr>
              <a:t>della </a:t>
            </a:r>
            <a:r>
              <a:rPr b="0" lang="it-IT" sz="1800" spc="-1" strike="noStrike">
                <a:solidFill>
                  <a:srgbClr val="c00000"/>
                </a:solidFill>
                <a:latin typeface="Californian FB"/>
                <a:ea typeface="바탕"/>
              </a:rPr>
              <a:t>S</a:t>
            </a:r>
            <a:r>
              <a:rPr b="1" lang="it-IT" sz="1800" spc="-1" strike="noStrike">
                <a:solidFill>
                  <a:srgbClr val="ff0000"/>
                </a:solidFill>
                <a:latin typeface="Californian FB"/>
                <a:ea typeface="바탕"/>
              </a:rPr>
              <a:t>cuola</a:t>
            </a:r>
            <a:r>
              <a:rPr b="1" lang="it-IT" sz="1800" spc="-1" strike="noStrike">
                <a:solidFill>
                  <a:srgbClr val="000000"/>
                </a:solidFill>
                <a:latin typeface="Californian FB"/>
                <a:ea typeface="바탕"/>
              </a:rPr>
              <a:t>,la cui documentazione comprende:</a:t>
            </a:r>
            <a:r>
              <a:rPr b="0" lang="it-IT" sz="1800" spc="-1" strike="noStrike">
                <a:solidFill>
                  <a:srgbClr val="000000"/>
                </a:solidFill>
                <a:latin typeface="Californian FB"/>
                <a:ea typeface="바탕"/>
              </a:rPr>
              <a:t>DF, PDF, PEICertif. della scuola precedenteSchede di valutazione…</a:t>
            </a:r>
            <a:endParaRPr b="0" lang="en-US" sz="1800" spc="-1" strike="noStrike">
              <a:solidFill>
                <a:srgbClr val="000000"/>
              </a:solidFill>
              <a:latin typeface="Calibri"/>
            </a:endParaRPr>
          </a:p>
          <a:p>
            <a:pPr marL="332640" indent="-3326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fornian FB"/>
                <a:ea typeface="바탕"/>
              </a:rPr>
              <a:t> </a:t>
            </a:r>
            <a:r>
              <a:rPr b="1" lang="it-IT" sz="1800" spc="-1" strike="noStrike">
                <a:solidFill>
                  <a:srgbClr val="ff0000"/>
                </a:solidFill>
                <a:latin typeface="Californian FB"/>
                <a:ea typeface="바탕"/>
              </a:rPr>
              <a:t>dell’ASL,</a:t>
            </a:r>
            <a:r>
              <a:rPr b="1" lang="it-IT" sz="1800" spc="-1" strike="noStrike">
                <a:solidFill>
                  <a:srgbClr val="000000"/>
                </a:solidFill>
                <a:latin typeface="Californian FB"/>
                <a:ea typeface="바탕"/>
              </a:rPr>
              <a:t>l</a:t>
            </a:r>
            <a:r>
              <a:rPr b="0" lang="it-IT" sz="1800" spc="-1" strike="noStrike">
                <a:solidFill>
                  <a:srgbClr val="000000"/>
                </a:solidFill>
                <a:latin typeface="Californian FB"/>
                <a:ea typeface="바탕"/>
              </a:rPr>
              <a:t>'Unità Multidisciplinare si occupa  di formulare il Profilo Dinamico Funzionale (PDF) insieme ai docenti curriculari, ai docenti specializzati e ai familiari. Inoltre, collabora con la famiglia e con gli operatori scolastici alla stesura del  Piano Educativo Individualizzato</a:t>
            </a:r>
            <a:r>
              <a:rPr b="0" lang="it-IT" sz="1800" spc="-1" strike="noStrike" u="sng">
                <a:solidFill>
                  <a:srgbClr val="0000ff"/>
                </a:solidFill>
                <a:uFillTx/>
                <a:latin typeface="Californian FB"/>
                <a:ea typeface="바탕"/>
                <a:hlinkClick r:id="rId1"/>
              </a:rPr>
              <a:t> </a:t>
            </a:r>
            <a:r>
              <a:rPr b="0" lang="it-IT" sz="1800" spc="-1" strike="noStrike">
                <a:solidFill>
                  <a:srgbClr val="000000"/>
                </a:solidFill>
                <a:latin typeface="Californian FB"/>
                <a:ea typeface="바탕"/>
              </a:rPr>
              <a:t>(PEI).</a:t>
            </a:r>
            <a:endParaRPr b="0" lang="en-US" sz="1800" spc="-1" strike="noStrike">
              <a:solidFill>
                <a:srgbClr val="000000"/>
              </a:solidFill>
              <a:latin typeface="Calibri"/>
            </a:endParaRPr>
          </a:p>
          <a:p>
            <a:pPr marL="332640" indent="-3326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fornian FB"/>
                <a:ea typeface="바탕"/>
              </a:rPr>
              <a:t>dei Servizi Sociali </a:t>
            </a:r>
            <a:r>
              <a:rPr b="1" lang="it-IT" sz="1800" spc="-1" strike="noStrike">
                <a:solidFill>
                  <a:srgbClr val="000000"/>
                </a:solidFill>
                <a:latin typeface="Californian FB"/>
                <a:ea typeface="바탕"/>
              </a:rPr>
              <a:t>per la predisposizione dei servizi ,del personale degli auslii  di sostegno alla persona con disabilità  nella scuola e nell’extra-scuola.</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fornian FB"/>
                <a:ea typeface="바탕"/>
              </a:rPr>
              <a:t>.</a:t>
            </a:r>
            <a:endParaRPr b="0" lang="en-US" sz="1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Si può realizza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b050"/>
                </a:solidFill>
                <a:latin typeface="Calibri"/>
              </a:rPr>
              <a:t>Proponendo </a:t>
            </a:r>
            <a:r>
              <a:rPr b="0" lang="it-IT" sz="2000" spc="-1" strike="noStrike">
                <a:solidFill>
                  <a:srgbClr val="000000"/>
                </a:solidFill>
                <a:latin typeface="Calibri"/>
              </a:rPr>
              <a:t>all'allievo argomenti che,anche se  non rientrano direttamente nel programm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colastico, sono  funzionali allo svolgimento dello stesso ,permettendo  un recupero de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requisiti indispensabili per lo svolgimento della materi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b050"/>
                </a:solidFill>
                <a:latin typeface="Calibri"/>
              </a:rPr>
              <a:t>Sviluppando</a:t>
            </a:r>
            <a:r>
              <a:rPr b="0" lang="it-IT" sz="2000" spc="-1" strike="noStrike">
                <a:solidFill>
                  <a:srgbClr val="000000"/>
                </a:solidFill>
                <a:latin typeface="Calibri"/>
              </a:rPr>
              <a:t> contenuti che privilegino il campo delle autonomie sociali, riferite al contes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vita dell'allievo (per esempio: la conoscenza del tempo, dello spazio, dell'uso de! dena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i mezzi di trasporto).</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b050"/>
                </a:solidFill>
                <a:latin typeface="Calibri"/>
              </a:rPr>
              <a:t>Elaborando </a:t>
            </a:r>
            <a:r>
              <a:rPr b="0" lang="it-IT" sz="2000" spc="-1" strike="noStrike">
                <a:solidFill>
                  <a:srgbClr val="000000"/>
                </a:solidFill>
                <a:latin typeface="Calibri"/>
              </a:rPr>
              <a:t>progetti mirati all'acquisizione di competenze professionali specifiche, anch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traverso attività di alternanza scuola-lavo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Pertan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nella programmazione semplificata  gli obiettivi didattici sono minimi e quindi ridotti,ma sempre riconducibili a quelli della class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 </a:t>
            </a:r>
            <a:r>
              <a:rPr b="0" lang="it-IT" sz="3000" spc="-1" strike="noStrike">
                <a:solidFill>
                  <a:srgbClr val="000000"/>
                </a:solidFill>
                <a:latin typeface="Calibri"/>
              </a:rPr>
              <a:t>nella programmazione differenziata  gli obiettivi didattici sono differenziati dai programmi ministeriali, ma si possono comunque perseguire obiettivi educativi comuni alla classe utilizzando percorsi diversi ma con lo stesso fine educativ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it-IT" sz="2000" spc="-1" strike="noStrike">
                <a:solidFill>
                  <a:srgbClr val="000000"/>
                </a:solidFill>
                <a:latin typeface="Calibri"/>
              </a:rPr>
              <a:t>Alcune indicazioni di metodo per l’attività di osservazione,fondamento per  l’attività generale di programmazione </a:t>
            </a:r>
            <a:r>
              <a:rPr b="0" lang="it-IT" sz="4000" spc="-1" strike="noStrike">
                <a:solidFill>
                  <a:srgbClr val="000000"/>
                </a:solidFill>
                <a:latin typeface="Calibri"/>
              </a:rPr>
              <a:t>:</a:t>
            </a:r>
            <a:br>
              <a:rPr sz="4000"/>
            </a:br>
            <a:endParaRPr b="0" lang="en-US" sz="4000" spc="-1" strike="noStrike">
              <a:solidFill>
                <a:srgbClr val="000000"/>
              </a:solidFill>
              <a:latin typeface="Calibri"/>
            </a:endParaRPr>
          </a:p>
        </p:txBody>
      </p:sp>
      <p:sp>
        <p:nvSpPr>
          <p:cNvPr id="71" name=""/>
          <p:cNvSpPr txBox="1"/>
          <p:nvPr/>
        </p:nvSpPr>
        <p:spPr>
          <a:xfrm>
            <a:off x="457200" y="981000"/>
            <a:ext cx="8229600" cy="51451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Calibri"/>
              </a:rPr>
              <a:t>Osservazioni registrate tramite sistemi aperti</a:t>
            </a:r>
            <a:endParaRPr b="0" lang="en-US" sz="19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Sono osservazioni che si fanno annotando in maniera discorsiva tutto ciò che ci colpisce in una giornata o momento della stessa.</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Narrazioni, diari, schede descrittive</a:t>
            </a:r>
            <a:endParaRPr b="0" lang="en-US" sz="2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Calibri"/>
              </a:rPr>
              <a:t>Osservazioni registrate tramite sistemi chius</a:t>
            </a:r>
            <a:r>
              <a:rPr b="1" lang="it-IT" sz="1500" spc="-1" strike="noStrike">
                <a:solidFill>
                  <a:srgbClr val="000000"/>
                </a:solidFill>
                <a:latin typeface="Calibri"/>
              </a:rPr>
              <a:t>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 </a:t>
            </a:r>
            <a:r>
              <a:rPr b="1" lang="it-IT" sz="1500" spc="-1" strike="noStrike">
                <a:solidFill>
                  <a:srgbClr val="000000"/>
                </a:solidFill>
                <a:latin typeface="Calibri"/>
              </a:rPr>
              <a:t>OSSERVAZIONI SISTEMATICHE RELATIV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a:t>
            </a:r>
            <a:r>
              <a:rPr b="1" lang="it-IT" sz="1500" spc="-1" strike="noStrike">
                <a:solidFill>
                  <a:srgbClr val="000000"/>
                </a:solidFill>
                <a:latin typeface="Calibri"/>
              </a:rPr>
              <a:t>AGLI ASSI:</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ASSE COGNITIVO ASSE AFFETTIVO RELAZIONALE ASSE LINGUISTICO E DELLA COMUNICAZION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ASSE SENSORIALE ASSE MOTORIO PRASSICO ASSE NEUROPSICOLOGICO ASSE DELL’AUTONOMI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Registrate su griglie  (Periodo: </a:t>
            </a:r>
            <a:r>
              <a:rPr b="0" lang="it-IT" sz="1500" spc="-1" strike="noStrike">
                <a:solidFill>
                  <a:srgbClr val="000000"/>
                </a:solidFill>
                <a:latin typeface="Calibri"/>
              </a:rPr>
              <a:t>Mensili Quadrimestrali Iniziali/intermedie/ final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obiettivo raggiunto</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obiettivo parzialmente raggiunto</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obiettivo non raggiunto</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Osservazione sistematica dell’alunno in relazione a comportamenti problemat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Quantificazione della frequenza di alcuni comportamenti</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Individuare ciò che realmente il bambino fa , quanto spesso lo fa, in quali situazioni.</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Identificazione di alcune categorie comportamentali(produce disturbo con rumori,con url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Indicazione per ogni categoria delle azioni osservabili(come produce i rumori…</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er ricordar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La vita della classe per molti alunni è l’unica opportunità d’incontrare altri compagni,per poter espandere la propria umanità,per poter avere un’esperienza personale oltre quella vissuta all’interno della famigli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Il compito dell’integrazione è quello di dare ai soggetti le chiavi più idonee per la lettura della realtà.</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Nuove prospettive pedagogich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Conduzione integrata dell’apprendimento 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Conduzione integrata della classe:gestione consapevole dell’esperienza educativa in un ambiente ricco di istanze sociali e relazioni:non solo integrazione,ma le integrazioni.</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Metodi di conduzione integrativa della class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Mettere in evidenza i bisogni e non le limitazioni.</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Scegliere di operare primariamente sulle risorse del soggett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Considerare il  momento dell’accoglienza  un aspetto prioritari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Sollecitare la partecipazion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Saper cogliere dalla collaborazione continua con la famiglia,con l’ASL,con i Servizi Sociali  i dati,le indicazioni,gli spunti formativi ed operativi per meglio orientare la barra nella navigazione quotidiana dell’attività scolastic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Calibri"/>
              </a:rPr>
              <a:t>Grazie per l’attenzione</a:t>
            </a:r>
            <a:endParaRPr b="0" lang="en-US" sz="5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C:\Program Files\Microsoft Office\MEDIA\CAGCAT10\j0281904.wmf"/>
          <p:cNvPicPr/>
          <p:nvPr/>
        </p:nvPicPr>
        <p:blipFill>
          <a:blip r:embed="rId1"/>
          <a:stretch/>
        </p:blipFill>
        <p:spPr>
          <a:xfrm>
            <a:off x="3659040" y="2567160"/>
            <a:ext cx="1825920" cy="172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268280"/>
            <a:ext cx="8229600" cy="48578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fornian FB"/>
              </a:rPr>
              <a:t>Coloro che sono impegnati nel processo d’integrazione  sono soggetti a due tipi di tendenz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fornian FB"/>
              </a:rPr>
              <a:t>Da  una parte  tendono a concentrarsi su obiettivi legati alle specificità della propria professionalità,del  proprio modo di essere,del ruolo ricoperto,ecc. pertanto  possono tendere alla chiusura o all’iperprotezion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fornian FB"/>
              </a:rPr>
              <a:t>Dall’altra mirano alla normalizzazione  o  di allontanamento dai compiti di cura ampliam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fornian FB"/>
              </a:rPr>
              <a:t> </a:t>
            </a:r>
            <a:r>
              <a:rPr b="1" lang="it-IT" sz="2000" spc="-1" strike="noStrike">
                <a:solidFill>
                  <a:srgbClr val="000000"/>
                </a:solidFill>
                <a:latin typeface="Californian FB"/>
              </a:rPr>
              <a:t>Si tratta di integrare  tali prospettive  per realizzare un unico progetto d’intervento  condiviso  su cui l’alunno  possa sviluppare il proprio progetto di vita.</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fornian FB"/>
              </a:rPr>
              <a:t>Il progetto di vita ,riguarda la crescita personale e sociale dell’alunno con disabilità la sua finalità è quella di elevare  la qualità della sua vita;poiché il suo orizzonte si dilata per tutto il suo </a:t>
            </a:r>
            <a:r>
              <a:rPr b="0" lang="it-IT" sz="2000" spc="-1" strike="noStrike">
                <a:solidFill>
                  <a:srgbClr val="ff0000"/>
                </a:solidFill>
                <a:latin typeface="Californian FB"/>
              </a:rPr>
              <a:t>futuro,richiede una condivisione consapevole e convita dalla famiglia e dagli altri soggetti coinvolti nel processo di integrazi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resupposti condivisi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unità e l’unicità della person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condivisione di valori e strategi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dozione di procedure di lavoro congiun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a prospettiva coerentemente coevolutiva e partecip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ROGETTARE A SCUOL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Californian FB"/>
                <a:ea typeface="바탕"/>
              </a:rPr>
              <a:t>Significa “Progettare con “strabismo a tre occhi” (Ianes)</a:t>
            </a:r>
            <a:endParaRPr b="0" lang="en-US" sz="2700" spc="-1" strike="noStrike">
              <a:solidFill>
                <a:srgbClr val="000000"/>
              </a:solidFill>
              <a:latin typeface="Calibri"/>
            </a:endParaRPr>
          </a:p>
          <a:p>
            <a:pPr marL="329040" indent="-3290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Californian FB"/>
                <a:ea typeface="바탕"/>
              </a:rPr>
              <a:t>In modo individualizzato</a:t>
            </a:r>
            <a:br>
              <a:rPr sz="2700"/>
            </a:br>
            <a:r>
              <a:rPr b="1" lang="it-IT" sz="2700" spc="-1" strike="noStrike">
                <a:solidFill>
                  <a:srgbClr val="000000"/>
                </a:solidFill>
                <a:latin typeface="Californian FB"/>
                <a:ea typeface="바탕"/>
              </a:rPr>
              <a:t>tenendo conto delle esigenze di sviluppo del soggetto </a:t>
            </a:r>
            <a:endParaRPr b="0" lang="en-US" sz="2700" spc="-1" strike="noStrike">
              <a:solidFill>
                <a:srgbClr val="000000"/>
              </a:solidFill>
              <a:latin typeface="Calibri"/>
            </a:endParaRPr>
          </a:p>
          <a:p>
            <a:pPr marL="329040" indent="-329040">
              <a:lnSpc>
                <a:spcPct val="6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Californian FB"/>
                <a:ea typeface="바탕"/>
              </a:rPr>
              <a:t> </a:t>
            </a:r>
            <a:r>
              <a:rPr b="1" i="1" lang="it-IT" sz="2700" spc="-1" strike="noStrike">
                <a:solidFill>
                  <a:srgbClr val="000000"/>
                </a:solidFill>
                <a:latin typeface="Californian FB"/>
                <a:ea typeface="바탕"/>
              </a:rPr>
              <a:t>In modo integrato al contesto della classe</a:t>
            </a:r>
            <a:r>
              <a:rPr b="1" lang="it-IT" sz="2700" spc="-1" strike="noStrike">
                <a:solidFill>
                  <a:srgbClr val="000000"/>
                </a:solidFill>
                <a:latin typeface="Californian FB"/>
                <a:ea typeface="바탕"/>
              </a:rPr>
              <a:t>  cercando di agganciare  sempre di più il soggetto alle attività della classe</a:t>
            </a:r>
            <a:endParaRPr b="0" lang="en-US" sz="2700" spc="-1" strike="noStrike">
              <a:solidFill>
                <a:srgbClr val="000000"/>
              </a:solidFill>
              <a:latin typeface="Calibri"/>
            </a:endParaRPr>
          </a:p>
          <a:p>
            <a:pPr marL="329040" indent="-32904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Californian FB"/>
                <a:ea typeface="바탕"/>
              </a:rPr>
              <a:t>Con un occhio al “progetto di vita”</a:t>
            </a:r>
            <a:br>
              <a:rPr sz="2700"/>
            </a:br>
            <a:r>
              <a:rPr b="1" lang="it-IT" sz="2700" spc="-1" strike="noStrike">
                <a:solidFill>
                  <a:srgbClr val="000000"/>
                </a:solidFill>
                <a:latin typeface="Californian FB"/>
                <a:ea typeface="바탕"/>
              </a:rPr>
              <a:t>tenendo conto che la giornata dell’alunno non finisce a scuola;                                 collaborando con gli operatori, le famiglia e le figure esterne alla scuola;                     guardando al suo futuro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alla progettazione “a tre occhi”</a:t>
            </a:r>
            <a:br>
              <a:rPr sz="2000"/>
            </a:br>
            <a:r>
              <a:rPr b="0" lang="it-IT" sz="2000" spc="-1" strike="noStrike">
                <a:solidFill>
                  <a:srgbClr val="000000"/>
                </a:solidFill>
                <a:latin typeface="Calibri"/>
              </a:rPr>
              <a:t>alle programmazioni </a:t>
            </a:r>
            <a:endParaRPr b="0" lang="en-US" sz="2000" spc="-1" strike="noStrike">
              <a:solidFill>
                <a:srgbClr val="000000"/>
              </a:solidFill>
              <a:latin typeface="Calibri"/>
            </a:endParaRPr>
          </a:p>
        </p:txBody>
      </p:sp>
      <p:sp>
        <p:nvSpPr>
          <p:cNvPr id="5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Programmazione didattica individualizzata specifica operativamente le linee e gli interventi </a:t>
            </a:r>
            <a:r>
              <a:rPr b="0" lang="it-IT" sz="2500" spc="-1" strike="noStrike">
                <a:solidFill>
                  <a:srgbClr val="000000"/>
                </a:solidFill>
                <a:latin typeface="Calibri"/>
              </a:rPr>
              <a:t>definiti </a:t>
            </a:r>
            <a:r>
              <a:rPr b="0" lang="it-IT" sz="2500" spc="-1" strike="noStrike">
                <a:solidFill>
                  <a:srgbClr val="ff0000"/>
                </a:solidFill>
                <a:latin typeface="Calibri"/>
              </a:rPr>
              <a:t>nel P.E.I </a:t>
            </a:r>
            <a:r>
              <a:rPr b="0" lang="it-IT" sz="2000" spc="-1" strike="noStrike">
                <a:solidFill>
                  <a:srgbClr val="000000"/>
                </a:solidFill>
                <a:latin typeface="Calibri"/>
              </a:rPr>
              <a:t>e  con riferimento,alla programmazione di classe,costituisce il documento nel quale vengono descritti gli interventi didattici -integrati ed equilibrati fra di loro - in riferimento alla crescita  globale,quindi sul piano cognitivo,psico-fisico,affettivo relazionale che si realizza in sezione o in classe. Descrive il percorso che - sul piano della didattica - si propone  allo studente con disabilità per il raggiungimento di obiettivi relativi  allo sviluppo delle competenze, alla conquista dell’autonomia ed alla maturazione dell’identità, in rapporto alle effettive potenzialità ,ai limiti,alle difficoltà dell’alunno e ai programmi didattici .</a:t>
            </a: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tutto tenuto nel debito conto delle risorse  che offre il contesto </a:t>
            </a:r>
            <a:r>
              <a:rPr b="1" lang="it-IT" sz="2500" spc="-1" strike="noStrike">
                <a:solidFill>
                  <a:srgbClr val="ff0000"/>
                </a:solidFill>
                <a:latin typeface="Calibri"/>
              </a:rPr>
              <a:t>,  con particolare attenzione alle dinamiche  nello sviluppo della personalità e degli obiettivi raggiunti nell’ambito dei  percorsi di riabilitazionei </a:t>
            </a:r>
            <a:r>
              <a:rPr b="0" lang="it-IT" sz="2500" spc="-1" strike="noStrike">
                <a:solidFill>
                  <a:srgbClr val="000000"/>
                </a:solidFill>
                <a:latin typeface="Calibri"/>
              </a:rPr>
              <a:t>e delle attività   svolte nell’extra-scuola</a:t>
            </a:r>
            <a:r>
              <a:rPr b="0" lang="it-IT"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programmazione didattica individualizzata si raccorda con la programmazione di class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Attraverso gli obiettivi educativi “trasversali”: atteggiamenti positivi rispetto alle prestazioni scolastiche, collaborazione fra gli allievi, capacità di assumere iniziative, disponibilità al colloquio e all’ascolto, rispetto per le regole comun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b) Attraverso gli obiettivi  della programmazione semplificat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Attraverso la valorizzazione  e l’utilizzo  di conoscenze,abilità,competenze  conseguite tramite  la programmazione differenzia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Programmazione didattica semplificata</a:t>
            </a:r>
            <a:endParaRPr b="0" lang="en-US" sz="2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La programmazione didattica  semplificata  colloca al centro dell’attività di programmazione l’allievo con disabilità per ripartire dai suoi interessi e dalle cose che è capace di  fare. E' uno strumento per colmare lacune preesistenti che rendono difficoltoso ed incerto il suo percorso di sviluppo globale e di  apprendimento. Uno strumento  per recuperare concetti e conoscenze mancate e per aggiornare il proprio curricolo a quello dei compagn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lcune indicazione per realizzarla:</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1" lang="it-IT" sz="1800" spc="-1" strike="noStrike">
                <a:solidFill>
                  <a:srgbClr val="00b050"/>
                </a:solidFill>
                <a:latin typeface="Calibri"/>
              </a:rPr>
              <a:t>Graduare </a:t>
            </a:r>
            <a:r>
              <a:rPr b="0" lang="it-IT" sz="1800" spc="-1" strike="noStrike">
                <a:solidFill>
                  <a:srgbClr val="000000"/>
                </a:solidFill>
                <a:latin typeface="Calibri"/>
              </a:rPr>
              <a:t>le difficoltà</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Calibri"/>
              </a:rPr>
              <a:t>Scomporre </a:t>
            </a:r>
            <a:r>
              <a:rPr b="0" lang="it-IT" sz="1800" spc="-1" strike="noStrike">
                <a:solidFill>
                  <a:srgbClr val="000000"/>
                </a:solidFill>
                <a:latin typeface="Calibri"/>
              </a:rPr>
              <a:t>gli  obiettivi in unità elementari.</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Calibri"/>
              </a:rPr>
              <a:t>Adeguare</a:t>
            </a:r>
            <a:r>
              <a:rPr b="0" lang="it-IT" sz="1800" spc="-1" strike="noStrike">
                <a:solidFill>
                  <a:srgbClr val="000000"/>
                </a:solidFill>
                <a:latin typeface="Calibri"/>
              </a:rPr>
              <a:t> il contesto didattico di cui l’alunno fa parte (tempi, spazi e metodi applicati),anche a partire semplicemente dalle verifich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Calibri"/>
              </a:rPr>
              <a:t>Utilizzare </a:t>
            </a:r>
            <a:r>
              <a:rPr b="0" lang="it-IT" sz="1800" spc="-1" strike="noStrike">
                <a:solidFill>
                  <a:srgbClr val="000000"/>
                </a:solidFill>
                <a:latin typeface="Calibri"/>
              </a:rPr>
              <a:t> il lavoro individualizzato per una conoscenza più approfondita</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gli interessi,delle potenzialità,delle conoscenze pregresse,delle modalità di  applicazione di tali conoscenze,delle  diverse esperienze…).</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marL="339480" indent="-339480">
              <a:lnSpc>
                <a:spcPct val="80000"/>
              </a:lnSpc>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b050"/>
                </a:solidFill>
                <a:latin typeface="Calibri"/>
              </a:rPr>
              <a:t>Accorciare </a:t>
            </a:r>
            <a:r>
              <a:rPr b="0" lang="it-IT" sz="1800" spc="-1" strike="noStrike">
                <a:solidFill>
                  <a:srgbClr val="000000"/>
                </a:solidFill>
                <a:latin typeface="Calibri"/>
              </a:rPr>
              <a:t>i tempi che intercorrono tra un momento di verifica e quello successivo</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programmazione differenziata</a:t>
            </a:r>
            <a:endParaRPr b="0" lang="en-US" sz="2000" spc="-1" strike="noStrike">
              <a:solidFill>
                <a:srgbClr val="000000"/>
              </a:solidFill>
              <a:latin typeface="Calibri"/>
            </a:endParaRPr>
          </a:p>
        </p:txBody>
      </p:sp>
      <p:sp>
        <p:nvSpPr>
          <p:cNvPr id="65" name=""/>
          <p:cNvSpPr txBox="1"/>
          <p:nvPr/>
        </p:nvSpPr>
        <p:spPr>
          <a:xfrm>
            <a:off x="457200" y="1268280"/>
            <a:ext cx="8229600" cy="4857840"/>
          </a:xfrm>
          <a:prstGeom prst="rect">
            <a:avLst/>
          </a:prstGeom>
          <a:noFill/>
          <a:ln w="0">
            <a:noFill/>
          </a:ln>
        </p:spPr>
        <p:txBody>
          <a:bodyPr anchor="t">
            <a:normAutofit/>
          </a:bodyPr>
          <a:p>
            <a:pPr marL="343080" indent="-343080">
              <a:lnSpc>
                <a:spcPct val="80000"/>
              </a:lnSpc>
              <a:spcBef>
                <a:spcPts val="7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b050"/>
                </a:solidFill>
                <a:latin typeface="Calibri"/>
              </a:rPr>
              <a:t>Riconosce </a:t>
            </a:r>
            <a:r>
              <a:rPr b="1" lang="it-IT" sz="3100" spc="-1" strike="noStrike">
                <a:solidFill>
                  <a:srgbClr val="000000"/>
                </a:solidFill>
                <a:latin typeface="Calibri"/>
              </a:rPr>
              <a:t>s</a:t>
            </a:r>
            <a:r>
              <a:rPr b="0" lang="it-IT" sz="3100" spc="-1" strike="noStrike">
                <a:solidFill>
                  <a:srgbClr val="000000"/>
                </a:solidFill>
                <a:latin typeface="Calibri"/>
              </a:rPr>
              <a:t>ignificato anche  a piccoli segnali di miglioramento che potrebbero assumere importanza  in un itinerario formativo mirato ed essere di valido supporto al percorso integrato .</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nSpc>
                <a:spcPct val="80000"/>
              </a:lnSpc>
              <a:spcBef>
                <a:spcPts val="7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b050"/>
                </a:solidFill>
                <a:latin typeface="Calibri"/>
              </a:rPr>
              <a:t>Permette</a:t>
            </a:r>
            <a:r>
              <a:rPr b="0" lang="it-IT" sz="3100" spc="-1" strike="noStrike">
                <a:solidFill>
                  <a:srgbClr val="000000"/>
                </a:solidFill>
                <a:latin typeface="Calibri"/>
              </a:rPr>
              <a:t> di sviluppare nello studente competenze specifiche di tipo non necessariamentedidattico; quali, per esempio, autonomie sociali o mansioni utili per una professione.                 </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14:41:51Z</dcterms:created>
  <dc:creator>pippo</dc:creator>
  <dc:description/>
  <dc:language>en-US</dc:language>
  <cp:lastModifiedBy>pippo</cp:lastModifiedBy>
  <dcterms:modified xsi:type="dcterms:W3CDTF">2011-06-09T15:06:11Z</dcterms:modified>
  <cp:revision>34</cp:revision>
  <dc:subject/>
  <dc:title>Diapositiva 1</dc:title>
</cp:coreProperties>
</file>