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4B6-1BF1-471E-8740-8AA2F6819D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A408-B22C-4581-816B-425C5B52296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BED-5EDF-4D34-9D25-532B9E3D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4DC-49FD-4174-A20F-5C328DD8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FEE-13FC-41D6-B858-A004C464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B03-7EE9-4502-9480-99BD20F9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10E-6185-4ABC-AC6B-055BD0A6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CF3A-C7AD-42BB-8567-BC25FAA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7691-9459-4A72-9D61-BF11323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FBFE-2AA9-4BE1-AEAB-AEDA27BC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4BD3-535A-460F-B016-0FB42F5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C257-43C7-415B-A15A-26A34D5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B7A4-CC87-4704-AF30-97EF41E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084-2A91-41CA-B7EF-E398F06D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F27-3439-4E8D-9637-2056C2C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81C1-D464-4655-BD13-10A429B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C68C-8B06-420A-96FB-FC870AA3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3E22-F60D-4402-BFE6-13005E2B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03EE-614E-4C6E-8956-3CEBDA1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80-6DE4-458A-8A18-E74B299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0C1-F3C8-4A1B-BFD3-989B0DD6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E3C-0FA9-4F93-B441-DEFE02AE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F06-9C72-402B-AA77-1B8EC35F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35E-9A54-4873-9B74-351FD61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339-2F37-4232-825F-4E258FC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FCE-65C0-4A76-9AE2-E89AB60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05AC-91BA-4041-8EBD-132E7F58F5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C31-4B18-4FAB-B9B6-9A447603AA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14360" y="1200240"/>
            <a:ext cx="8242200" cy="2195280"/>
          </a:xfrm>
          <a:prstGeom prst="rect">
            <a:avLst/>
          </a:prstGeom>
          <a:ln w="0">
            <a:noFill/>
          </a:ln>
        </p:spPr>
      </p:pic>
      <p:sp>
        <p:nvSpPr>
          <p:cNvPr id="392" name="Segnaposto piè di pagina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251000" y="3257280"/>
            <a:ext cx="66420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 linguaggio tecnico ad una comunicazione effic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f64c2"/>
                </a:solidFill>
                <a:latin typeface="Tahoma"/>
              </a:rPr>
              <a:t>PER RIFLETTERE UN PO’…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significato dell’”incontro tecnico” rispetto al gruppo integrato : quando , come, perch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i “conduce” un gruppo integr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 ruolo ha i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dutto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l’incon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 per il colloquio con i genitori anche il gruppo integrato non è una “chiacchierat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ssuno dei Componenti del gruppo integrato è portatore della “sapienza assoluta” ma ciascuno porta la propria conoscenza al fine di integrarla con le alt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80629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cc99"/>
                </a:solidFill>
                <a:uFillTx/>
                <a:latin typeface="Book Antiqua"/>
              </a:rPr>
              <a:t>GRAZIE PER L’ATTENZIONE !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-1000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395" name="Segnaposto contenuto 6" descr=""/>
          <p:cNvPicPr/>
          <p:nvPr/>
        </p:nvPicPr>
        <p:blipFill>
          <a:blip r:embed="rId1"/>
          <a:stretch/>
        </p:blipFill>
        <p:spPr>
          <a:xfrm>
            <a:off x="438120" y="396720"/>
            <a:ext cx="8334360" cy="5699160"/>
          </a:xfrm>
          <a:prstGeom prst="rect">
            <a:avLst/>
          </a:prstGeom>
          <a:ln w="0">
            <a:noFill/>
          </a:ln>
        </p:spPr>
      </p:pic>
      <p:sp>
        <p:nvSpPr>
          <p:cNvPr id="396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unichiamo attraverso i comportamen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unichiamo anche quando non vogliamo comunicare (“non si può non comunicare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unichiamo con il linguaggio verb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unichiamo con il linguaggio scrit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unichiamo con il linguaggio gestu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linguaggio scritto e orale ha un ruolo centrale nella comunicazione tra la Scuola, la famiglia e le istituzioni che si occupano a vario titolo dei bamb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amo comunicare utilizzando linguaggi divers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tto è possibile ma potremmo rischiare di dire le stesse cose e pensare di aver detto cose diver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404" name="Segnaposto contenuto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olo 9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93040" cy="925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1680" y="1600200"/>
            <a:ext cx="4191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ntegrazio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termine integrazione è sempre stato utilizzato con il significato di “integrazione reciproca”, cioè con accomodamento sia dell’individuo che del contest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51200" y="1600200"/>
            <a:ext cx="4191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Tahoma"/>
              </a:rPr>
              <a:t>Inclusio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È un termine che sembra non aggiungere nulla  che non sia presente nel termine integrazi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Consultando un testo in inglese o una traduzione il termine “inclusion” o l’aggettivo “inclusive” sono più opportuni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l suo uso in italiano è semplicemente un ingles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olo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er rispondere ad un bisogno educativo speciale talvolta è sufficiente un’evoluzione della didattica normalmente usata in classe dai docenti curricola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 normalità da sola, non arricchita di risorse , non sempre è sufficiente e funzi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La normalità va arricchita, va resa speciale, evolu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er raggiungere questo obbiettivo ci vogliono risorse speciali                ( insegnanti specializzati, educatori, psicologi, pedagogisti, neuropsichiatri, logopedisti  etc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Queste figure devono riuscire a rendere speciali i materiali, le strategie, le tecniche e le azioni norma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Queste figure si incontrano, dialogano, progettano e si confrontano in un momento privilegiato : il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gruppo integr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Segnaposto piè di pagina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’integrazione delle persone con disabilità costituisce una delle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mission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ella Scu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n lo “strumento” del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Gruppo  integrato 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scuola riconosce la necessità di promuovere l’interdipendenza positiva tra Istituzioni e professioni dive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olo 1" descr=""/>
          <p:cNvPicPr/>
          <p:nvPr/>
        </p:nvPicPr>
        <p:blipFill>
          <a:blip r:embed="rId1"/>
          <a:stretch/>
        </p:blipFill>
        <p:spPr>
          <a:xfrm>
            <a:off x="352440" y="228600"/>
            <a:ext cx="8437680" cy="1143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gruppo integrato permette di definire ciò che tutte le istituzioni sono in grado concretamente di d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 è una verifica dell’operato del docente o della Scu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 un momento 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struttivo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 richiede un “dialogo sincero” tra le par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 gruppo integrato “nasce” il Piano educativo Individualizz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Segnaposto piè di pagina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Associazione "La Nostra Famiglia"                                                                           Varaz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36:37Z</dcterms:created>
  <dc:creator>MT-P</dc:creator>
  <dc:description/>
  <dc:language>en-US</dc:language>
  <cp:lastModifiedBy>MT-P</cp:lastModifiedBy>
  <dcterms:modified xsi:type="dcterms:W3CDTF">2011-06-09T14:04:32Z</dcterms:modified>
  <cp:revision>23</cp:revision>
  <dc:subject/>
  <dc:title>DALLA DOCUMENTAZIONE SCRITTA AL GRUPPO INTEGRATO</dc:title>
</cp:coreProperties>
</file>